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6EF8-A0B8-4B4D-8B1C-6EC334823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CD84-B5C7-4386-8056-38A33D71CC2A}"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F50E-197D-4CD5-BDEA-1EF6460F4A84}"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204E-045E-4575-B64F-C25C0CA5F2B1}"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8B5A7-3F99-4663-A5DF-DBE8F2DF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36DDF-C648-471F-9BC0-5486321A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D467A-70F9-4AA3-8B8C-09865444F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A5463-6C15-4E2B-B2A0-271374FEA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7DB60-E187-49F3-AD22-78CD89E6F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66FE6-A1D2-48A6-90AC-1CCA79316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0F9B9-DF4B-4FFB-8B7C-FC7BABCCD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6E98E-21DC-417A-ABCB-77804D043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1F0B8-A0F1-40DC-9890-D9037FEAF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1219C-F8AF-42FA-AD43-06B846B18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261B4-9EB0-4C5E-B471-111AEAC17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5408-3160-4831-98C3-6D966D26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21A1-65AB-435C-A94E-34FF57D6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6C53D-F145-438C-A380-7834E463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A99D4-4EB8-40E8-823D-D95BF34C9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E5901-3BB9-4E26-8408-974D37349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4010C-0B47-41C1-9780-2E07B3ECE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A5EED-D709-4E1D-AE35-BB6BC432B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168D-24F2-4D34-9567-39370BE0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B6B4-2F1E-43A0-A5EF-C8BA98C6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8478-49D6-48A4-8337-FE36EEE0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802F-AEDD-4B64-931C-8E05CC21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A203-5E0F-4F76-A55B-5E811DDD2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D0E2-4D7A-434A-A2F5-95C6264FA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 name="Picture 4" descr="A:\minispir.GIF"/>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DA6E-6B9E-4B3F-BAA6-89306B620E9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47" name="Picture 4" descr="A:\minispir.GIF"/>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5DBD-A436-42B5-94BA-C78A361566D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Picture 4" descr="C:\Program Files\Common Files\Microsoft Shared\Clipart\cagcat50\NA01062_.wmf"/>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anchor="t">
            <a:normAutofit fontScale="99000"/>
          </a:bodyPr>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Text Box 7"/>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Picture 5" descr="C:\Program Files\Microsoft Office\Clipart\standard\stddir2\BD08078_.WMF"/>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Picture 5" descr="C:\Program Files\Microsoft Office\Clipart\standard\stddir1\BD05103_.WMF"/>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Picture 4" descr="C:\Program Files\Microsoft Office\Clipart\standard\stddir1\BD05208_.WMF"/>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Picture 5" descr="C:\Program Files\Microsoft Office\Clipart\standard\stddir1\AN01707_.wmf"/>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Picture 6" descr="C:\Program Files\Microsoft Office\Clipart\standard\stddir4\SO00962_.wmf"/>
          <p:cNvPicPr/>
          <p:nvPr/>
        </p:nvPicPr>
        <p:blipFill>
          <a:blip r:embed="rId2"/>
          <a:stretch/>
        </p:blipFill>
        <p:spPr>
          <a:xfrm>
            <a:off x="5105520" y="1981080"/>
            <a:ext cx="1420560" cy="1616040"/>
          </a:xfrm>
          <a:prstGeom prst="rect">
            <a:avLst/>
          </a:prstGeom>
          <a:ln w="0">
            <a:noFill/>
          </a:ln>
        </p:spPr>
      </p:pic>
      <p:pic>
        <p:nvPicPr>
          <p:cNvPr id="247" name="Picture 7" descr="C:\Program Files\Microsoft Office\Clipart\standard\stddir1\AN02608_.wmf"/>
          <p:cNvPicPr/>
          <p:nvPr/>
        </p:nvPicPr>
        <p:blipFill>
          <a:blip r:embed="rId3"/>
          <a:stretch/>
        </p:blipFill>
        <p:spPr>
          <a:xfrm>
            <a:off x="4952880" y="3276720"/>
            <a:ext cx="1836720" cy="1349280"/>
          </a:xfrm>
          <a:prstGeom prst="rect">
            <a:avLst/>
          </a:prstGeom>
          <a:ln w="0">
            <a:noFill/>
          </a:ln>
        </p:spPr>
      </p:pic>
      <p:pic>
        <p:nvPicPr>
          <p:cNvPr id="248" name="Picture 8" descr="C:\Program Files\Microsoft Office\Clipart\Pub60Cor\SO00190_.wmf"/>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Text Box 5"/>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Text Box 6"/>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8" name="Text Box 7"/>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 ...</cp:lastModifiedBy>
  <dcterms:modified xsi:type="dcterms:W3CDTF">2011-07-08T02:03:23Z</dcterms:modified>
  <cp:revision>13</cp:revision>
  <dc:subject/>
  <dc:title>POETRY</dc:title>
</cp:coreProperties>
</file>